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F127-8E08-480B-93F7-028B36766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01DA-EEA1-4864-9972-41C9AA6C7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A977-C1CA-4946-938A-5399E6731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7327-4170-42B3-9892-9A8440C69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22E8-1581-4C52-AB38-84FB84A67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7AC4-67DA-43E0-B08F-E9471D41C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9A08-4986-4B4E-A6F3-CAE022BA8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0AB0-697C-4328-B859-16DF53CE2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653-AD38-47CE-8F21-E097C5A24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45C-60B3-4208-B5EC-33B382B7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487-4C38-49C2-B45C-5304AB4D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DF0-A7D9-42EA-B0D3-7198C425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B24-5FF6-4B95-A51D-E06876A2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FFC2-C154-4C49-A33A-EF84CE78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1256-C7BC-429E-831D-8F5ACBB1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3B63-F5C3-4F94-9070-15839503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AF92-E32F-41F4-806C-6988324F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CEE1-21B2-4EF3-B156-57E4FBB8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63F8-0B78-4444-A67D-7AE443E4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6CAE-5F52-4819-9304-342DF08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642-13A7-4C95-BB64-B2991A32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8B7E-D945-408B-9876-A25FAEA2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E751-2441-4BC7-B214-5BA1B0A3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D8E-32F4-41CD-BF0A-7ACD07B1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C6AE-EDD1-4BC2-9387-8DA03EAA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CB5F-8B54-4A70-98F3-26D79ECF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62827-6172-4DD1-B2D9-60A282E1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E424D-0300-4954-B0D3-4952A70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6C94D-1AB1-4B5A-A4DF-15BBC0F0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12CE5-3708-4063-9539-35AF2BB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2C1EB-3AEA-44DB-AAE1-A1F5285A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0B7-D3EF-4705-91DD-9791EFD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B004B-41C0-4C61-8799-5527671B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8272D-DE71-4EA6-8726-186A5395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DF6B1-C989-455D-9BB8-D56D6E6F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C3706-0C03-4F5F-85DD-66FC6F82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D6AD8-E3FA-41CF-8D74-5F2D45EB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31697-F205-4B6D-942F-73BA1FA6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06CEA-B803-4255-9F2F-EA96492D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591F-8531-48A1-A7A8-9BBE936E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9EA0-BD3F-4DB0-8A89-1428B951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5297-2323-44A9-98E2-FA88B722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268-3AF2-404D-B792-E17DF27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278B-6186-41C3-9F4C-F67D147F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0F2C-5E60-4FAF-A5EB-AE6B6368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9E36-1725-4030-B891-6AC50AEF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937C1-76C6-45A1-BC53-91F6718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685C8-362F-4830-809F-CDEB66F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D65B-4C53-41C2-ABA5-92AE6F24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FD48-9249-42F0-A77A-C2ABE0AF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D121B-EB9C-4549-B2AB-C469A137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DC97-3239-4BB5-B6F2-116FB5CB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9D894-7CD8-4648-B53D-11D19AFC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F70-AC44-4C3E-BA08-64C34BF9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EA64F-AC78-46C1-BA2B-5C76340A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1DCFF-CB8A-4355-8431-50F8914F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A3DD8-845C-4BBF-AA55-E742A2CA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76FF7-BDC1-41FA-9F17-8DB75E1D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4433D-BA70-4B05-8612-E56756DA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034D8-BB96-42BA-83F5-B73BBA0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80A3C-2CD5-48E2-B845-409CACD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DAEE1-7AC9-4F8D-9B1A-C89BCF76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52A4C-97A3-4278-9C52-E3BC71F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2F2D1-6E2B-4CEC-B128-DCA103EB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676-3157-42D0-B145-BDF5CF93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20A9C-94F1-4F1D-9724-EABA08FD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E0A52-6795-4DB7-865F-D1A92562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644C9-446F-47E2-8985-48F55519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1825C-4F59-46F3-B7D2-4AD788A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AFAA1-D01F-408C-B61E-49A828F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CF2CC-8193-44B3-B6B7-48DF5FDD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9725D-E2F7-4201-A810-A1B5D570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AB1E7-8BF6-4122-8FE4-C9EE2134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7D17F-4CAE-40C5-9C93-3C105DC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E415B-C8D6-4024-AD63-A99C75C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B79-A7CD-4BD4-82F2-01B1307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6D194-74CD-41E9-A457-9F5E1742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49D7D-9430-4A47-96F8-94DE6AE9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0C7B1-4C02-431A-852D-ADE4C908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9F9F2-0E42-4F16-B730-3204B0DA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B5CCC-F3E1-424C-8357-40111D23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3A0D7-FBB3-4826-A02D-BFF9CFC0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606ED2-8468-4FE0-BEAE-58167041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82E22-33A1-406A-B2D8-E4C927CA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E055E-716F-471E-A289-C19E084B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7284D-C303-4BEC-A5D0-E68BFA13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622-CAD0-4117-A5FF-B24EF31B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A2E3A-BFE9-4550-A261-4217DC8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07A96-C187-4252-866A-A7B0C86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FB9FD-8A7B-43E6-BF95-4D8D60E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9675D-9FCA-4443-B6D3-E4EC6292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55A87-0837-4DD4-B9C6-52ADBA9F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AE6-B2CE-4623-BBE6-0E4B1F1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E68E-9A59-4226-9867-4EC09A8B4E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A07-F03A-48BF-8721-96FCD67533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6650-0948-4664-89B2-DABBEAACBD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9996-3D60-4525-B873-46666F7D75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0164-E5C4-4CED-88F9-24DD0EA8AE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59B9-BABA-43EE-BFE1-32E70D4D37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02A1-EA66-47C8-B847-433D62055E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UTHOR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Explain who J.D Salinger is(at least 3 facts about him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2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UMMARY &amp; TITLE EXPLANATION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 a brief summary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the titl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3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M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the them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4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FIGURATIVE LANGUAG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py a minimum of 3 examples of figurative language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atcher…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explain each of th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member page #s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5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ARACTERIZATION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yze one of the characters from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cribe them physically and mentally, and write how they affect and/or add meaning to the story or to Holden’s life.  Pick a quote from the story which describes th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forget page numbe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6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G POOP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yze Holden’s Dog Poop (explain what it is and how he handles it- if he handles i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ck one quote from the story to represent his dog po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forget pag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7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YMBOLISM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what two of the following symbols represent (red hat, Pency Prep, Central Park, the ducks, Allie’s glove, unmade phone calls, movies, other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THIS IS YOUR INTERPRETATION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8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YOUR CHO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ose how you would like to end your present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your heading (name, date, class, et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45:55Z</dcterms:created>
  <dc:creator>nvasquez</dc:creator>
  <dc:description/>
  <dc:language>en-US</dc:language>
  <cp:lastModifiedBy>nvasquez</cp:lastModifiedBy>
  <dcterms:modified xsi:type="dcterms:W3CDTF">2009-10-20T04:54:04Z</dcterms:modified>
  <cp:revision>1</cp:revision>
  <dc:subject/>
  <dc:title>SLIDE 1 Author</dc:title>
</cp:coreProperties>
</file>